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2FEB-DB0E-4305-8271-0911E667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C1F-B456-4A71-B4B3-64446C28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446B-8407-4028-87F2-DB338631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3F4-F67E-46FF-8D79-99818A73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28F6-8E99-4A91-A202-E5FCB32A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207A-AFE5-4CCC-BE79-32BE5337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CF7-2732-49B5-AF60-BCBD7301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E39-DA7A-48F3-A44F-9D81E20E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4135-9752-48D0-9025-E9DA05BD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E88-F6DA-45FB-883B-EB834B85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2983-19BE-4A40-94FB-D348B308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C06-84A1-4746-82CE-65BE17C2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4C09-B4A5-40D6-B64D-CA9937260D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9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9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9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9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0040" y="1523880"/>
            <a:ext cx="6613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tiologic 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mo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he Expos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81680" y="5486400"/>
            <a:ext cx="16765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2438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1629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243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7162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16292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162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620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486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934320" y="5943600"/>
            <a:ext cx="16761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46748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467480" cy="2438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4267080"/>
            <a:ext cx="7467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2438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467840" cy="1295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81680" y="3886200"/>
            <a:ext cx="15242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467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7467480" cy="2667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467480" cy="2666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705720" y="5638680"/>
            <a:ext cx="1523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467480" cy="1197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467480" cy="2438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7467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467480" cy="949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467480" cy="2438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7467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467480" cy="838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467480" cy="2438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705720" y="3581280"/>
            <a:ext cx="1523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7467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162920" cy="3521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7162920" cy="1447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2680" y="4648320"/>
            <a:ext cx="48769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17524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* is the same in both formula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1676520"/>
            <a:ext cx="426744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248520" cy="1882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6248520" cy="838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981080" y="3733920"/>
            <a:ext cx="556272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3733920"/>
            <a:ext cx="68580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3581280"/>
            <a:ext cx="3049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0" y="4876920"/>
            <a:ext cx="990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96440" cy="5790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81480" y="4800600"/>
            <a:ext cx="3200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33:13Z</dcterms:modified>
  <cp:revision>212</cp:revision>
  <dc:subject/>
  <dc:title>Slide 1</dc:title>
</cp:coreProperties>
</file>